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E16D-EA01-40ED-89D6-6E5D0961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C281-EBDA-4EF4-A3DD-AA506D80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5C7F-ED9A-483A-9A3A-30D56CC39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7147-EE77-4B90-91EE-5846CFC44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181C-84EA-4814-96FB-724FE5B21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0776-968A-46B3-AAE5-685F4F63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40F3-3F1F-4BAB-80B3-B18279FB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2BDE-AE32-4291-B4CA-5E68E03F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6F31-E131-4313-B9DF-156D989C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CB72-7254-4FBA-944B-7C6DA575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DBFF-FBCE-451A-8ADB-A3605CFD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50E5-1CC1-4321-9D2D-6DF52F6F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C1E6-8BD9-4C82-B93C-08410A54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96ED-E2E4-41D5-AB0E-082B12DB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CC4F-17F3-4B7F-8C83-4D2BF9A3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22EB-CEE8-4A17-8508-5FF2A949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8F78-4DE8-4C95-8470-C90358348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9C44-A042-4FF8-9725-E073623C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CEEA-D9F9-4025-BEE2-B894EEE2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C027-9F85-409C-A22C-5B5BDFDC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2EAE-C541-46D9-9718-FA096E0C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134E-9EE9-4AEE-A2E0-4D9FF316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94CB-0B82-42CB-94BE-5DA5C951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60BB-C125-4BE5-B46F-1F0E46E9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EE64-E986-4C0A-BB55-E26AF865EBD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521A-4DBD-4088-80C7-0311989BB73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acticum’s Wonderful Teaching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y: Nicholas Doy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ackward Desig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use it to make sure it is clear what topic we want to addres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rking backwards helps keep things in ord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ifferenti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 may had been stressfu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arned that there are 8 MI’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must be addressed when teachin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ifferenti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d a good idea of adding music to my clas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rprised that there were so many mor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esired Resul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4038480" cy="30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scovered new and different ways to ass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3047760"/>
            <a:ext cx="4038480" cy="30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ic Life, IMovie, GarageBand, simple rubric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esired Resul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4038480" cy="30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t we all know how we get some of those resul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979880" y="1600200"/>
            <a:ext cx="3375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rted at believing teaching was only done by writing on the boa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d a fear of talking in front of peop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ded at knowing that to reach every student, which is my goal, I need to teach in ways that are different from lecturin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w I have no problem talking with all eyes on m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06:38:38Z</dcterms:created>
  <dc:creator>Student</dc:creator>
  <dc:description/>
  <dc:language>en-US</dc:language>
  <cp:lastModifiedBy>Student</cp:lastModifiedBy>
  <dcterms:modified xsi:type="dcterms:W3CDTF">2008-04-10T12:55:16Z</dcterms:modified>
  <cp:revision>8</cp:revision>
  <dc:subject/>
  <dc:title>Practicum’s Wonderful Teachings</dc:title>
</cp:coreProperties>
</file>